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B23-3F4C-4B5A-8422-16DD30C3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29C7-D318-4AC5-9D68-BFE9989E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69EF-A96E-4A11-90CD-78968FAB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560-927C-44BD-9CE4-E9C50BCA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DFA0-37A5-45F5-9584-8DA4B3C3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B83E-E620-4DC3-978C-1BFE139A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C9A2-4B7A-49BD-A209-E73CFC67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8C56-96C9-4208-B916-28FBF6F8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3B72-6F9D-4B4D-A5A2-C30DF76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930E-DC99-4B1F-8EDA-E5950767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9ED5-4E94-4A7E-9DBA-E7AC1885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21D-E137-4D91-B58E-551AE3FD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F33E-DAF1-420B-AFA9-2FBEFD26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5893-1EA0-44BA-AE67-6BDFC2A0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6E2A-7B69-433D-AAE0-60426413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DA93-776C-4665-9F49-4C6CFBF9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8C64-E583-4D7D-9870-D2BDE1B1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D560-DE50-4AA3-A0F1-EC51FEF0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21525-5718-4EE5-AB1D-F9055AA8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C028-E26A-4FE0-B070-7C2CBF1F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1A9F-5EB0-4EB6-8380-220E7725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6E3A-8B61-46F1-81D2-EC50CAF4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BE0-BEF1-4688-A2C2-2D01A92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1B090-6241-4723-A3F8-343A7C4F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2A1C-5542-4D36-99FE-99062262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05FE5-F8C5-499E-AAE3-F8A9A80D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3B6EB-EFC9-48E5-8396-C3EC91D9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8BE8-A83C-456B-B842-FD2D0F97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67C18-B326-46F0-8FE6-12DD8956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92FB-E98F-4627-8675-AC6FE101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24D4-655E-465D-880A-0E0CA99A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37E0F-0D89-4E29-9EEC-3CA19731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A5F2C-8104-4E7B-99BE-8010B191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C98-359A-4CB2-A431-F6E3CC6C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D84E3-9ADC-4D48-AAA7-CD2E9EB8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8EE0-8B66-4AC8-B6E7-A3FFF5E4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CE9B-CBC3-49E4-8842-7D8A2074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3CC0F-9658-4D3E-BA7A-FE1E60CF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198E-03C2-4E40-A805-4CE2C3EA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4B19-CAF0-499C-9359-F267B6C4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DB77-EBC1-4A26-B379-9529E295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B49D1-DF63-4A3F-848C-E2ED534E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6F2F-E032-4662-82C5-BC3B7299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8EAFF-0232-49C3-9E8D-2C8688C4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ED9B-D6A8-4814-A31C-1A206017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4BDC0-9680-42D6-B245-75FCB8EE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3EA7C-DCC1-467E-BE41-D5339807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DD54-C98C-4BB9-B6FF-386AF76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2C512-AEE4-443D-893F-247D8F6A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6313F-593C-4BB4-9AE9-0E78036D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FA709-943C-4553-B639-1D33EE7F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26F7-B28A-44DF-9A75-514FC1C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0FA54-40FB-4CF9-9860-A608A5CB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BF00D-C326-4A24-800B-BDC4B4BF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22114-AC67-4D59-9778-481A51F3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9A0-AAEB-4958-8DE6-0281804E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750C8-6DD1-4E89-8307-747608A5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19F13-97BD-4F70-BAF0-5E0E9DCB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D956E-6A9A-48E2-AF99-75F825D2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5F082-1B42-4CAC-995B-2BFDE6D1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E452D-DCEF-4CFA-96D9-E93140FF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49C49-3A25-48EA-B3C9-CC7BD0C8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A2B24-544E-4E7D-BA66-655FA900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393A7-E1BF-4DB2-B79F-CCEBEA3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F3FEA-1379-4B40-9E10-40E46B3C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CEB7E-5962-48A1-8993-B6CD0565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B1D-538D-4F17-B056-4F7349D5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358CA-EB2A-4F43-83B6-39B3C1B2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C4003-C281-47BA-BC35-2B177801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B7EA9-BE10-4270-8E08-C7274B4E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AA4CB-2CB0-4BDC-840B-13A9F326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BE77B-71AD-4A68-9650-EE4E0CFD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91B9-558F-4BFC-9438-2CFA7752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C2E6A-5783-45DC-B74F-6D691C68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E6944-12B2-4F61-8B0D-986587A1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FD2A7-5B53-4B91-9275-F9DD1A91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3C784-A74F-4E10-9221-14DE8553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CA3-2E4E-4EC8-A021-01FE5B6D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273EF-BD22-40C3-8DBA-32209BBD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4CB4D-2CD9-404C-827C-19CAD27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F67E7-FB31-4BF0-8209-B3FE702A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72C30-AA5E-4E11-B782-BEE7997C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DC64F-62B9-49CC-93F0-DF6B8380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2B82C-5CD9-44B8-8354-8A72F28E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2D0E1-DF90-4309-97D8-9669A743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6F34F-C2CE-42F6-8A29-7568719E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35683-44D1-4783-951B-00ACDAF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11DD8-55EB-4F76-A3F4-4E5AA63F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431-A47F-4316-8587-1F58EC56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B428-E68E-4CAD-B1C2-9FBD614F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61DB3-8113-4826-8F16-0158C709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0AC58-1ABB-47F7-B300-C9DF5D8D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4DCF9-3CDA-43BF-A1C2-DBC258A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BF3D5-8D28-4279-AA32-7B57DB58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6415-5A87-4C01-97BB-D2192A322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2BFAF-ABAC-40DC-B6AF-02181477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544A-B610-41E8-B929-EAB38750886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9379-832A-40B5-A838-9A4A7085EB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965A-EB9D-4F6A-800B-63A8B010F43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6CC7-8920-4A81-A54C-22152EEB05A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46A3-3811-4E2C-B725-0758DFCA473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BCAB-F048-4414-ADC0-7BAC950A470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E327-A7D6-42FC-84C5-525FB26BE5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7B89-AEC0-42F9-86F1-BD572C69BE1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1.) Write the following problem in your science journal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2040" indent="-34308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blem: What building structure will best survive an earthquake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2.) As a group discuss the size and shape of the building. Write a hypothesis.</a:t>
            </a: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62040" indent="-34308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ypothesi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457200" y="609480"/>
            <a:ext cx="8458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r group will only have 20 miniature marshmallows, 20 toothpicks, 20 popsicle sticks, and glue (you cannot use the bottle or the c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r group can only use the provid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structure must represent a bui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height must be at least 20 c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width of the base must be at least 4 cm but less than 8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length of the base must be at least 4 cm but less than 8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You only have 1 class period to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1"/>
          <p:cNvSpPr/>
          <p:nvPr/>
        </p:nvSpPr>
        <p:spPr>
          <a:xfrm>
            <a:off x="533520" y="609480"/>
            <a:ext cx="78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.) Decide who will complete each jo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Project Manag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ll be in charge of the entire project; makes sure everything is completed and people are doing their jobs. Can help other jobs as nee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Architect-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ll complete the blueprint of the building with dimensions and materials lis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Construction Engineer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ll complete the building of the actu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Construction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ill complete the building of the actu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533520" y="60948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4.) Begin building and dra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*MAKE SURE TO FOLLOW THE RESTRICTIONS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rchitect- Complete the drawing- due by end of the period (Make sure everyone’s name is on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.) At the end of the period, group names need to be on the building and your area needs to be cl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hoose between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 straws OR 10 toothpick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0 marshmallows OR a piece of tap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s a group, make modifications and revisions to your building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ake the changes on your blueprint also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You have exactl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15 minutes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finish your buil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3"/>
          <p:cNvSpPr/>
          <p:nvPr/>
        </p:nvSpPr>
        <p:spPr>
          <a:xfrm>
            <a:off x="609480" y="685800"/>
            <a:ext cx="7467840" cy="72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Test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.) Determine test variables as a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do you want to test? (independent 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do you want to stay the same? (contr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data do you want to collect? (dependent 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.) Draw a data table in your jour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.) Conduct the experiment and collec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2"/>
          <p:cNvSpPr/>
          <p:nvPr/>
        </p:nvSpPr>
        <p:spPr>
          <a:xfrm>
            <a:off x="609480" y="685800"/>
            <a:ext cx="746784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Narrow"/>
              </a:rPr>
              <a:t>Test 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4.) Analyz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building designs worked the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materials worked the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5.) Write a conclusion in your notebook based on your analysis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3"/>
          <p:cNvSpPr/>
          <p:nvPr/>
        </p:nvSpPr>
        <p:spPr>
          <a:xfrm>
            <a:off x="762120" y="304920"/>
            <a:ext cx="746748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ass work/Homewor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Write a one page proposal (in the form of letter) to send to the officials and builders in the town. Include a summary of the testing procedures, the structures of the various buildings, and recommendations for earthquake-proof buildings based on your conclu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4:39:40Z</dcterms:created>
  <dc:creator>Lura Moore</dc:creator>
  <dc:description/>
  <dc:language>en-US</dc:language>
  <cp:lastModifiedBy>Falcon School District 49</cp:lastModifiedBy>
  <dcterms:modified xsi:type="dcterms:W3CDTF">2010-11-23T21:12:13Z</dcterms:modified>
  <cp:revision>24</cp:revision>
  <dc:subject/>
  <dc:title>Slide 1</dc:title>
</cp:coreProperties>
</file>